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28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3D0-D7C9-4934-ABC4-3644AFFDA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549-1147-405A-8FFD-939EF6C9C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998B-530A-44B3-8C5A-C053FD328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ED3C-8915-408A-9200-D82C66B0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D0A-ED4C-4F8A-BDBD-86ACD751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CFCC-D48A-4315-9297-0498FD6F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6A4-CD88-42C9-BE20-3462A163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3A8-0C11-4EBC-B82B-F31F3EDB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A24-26B7-485C-B79D-F61816AC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C4D-AE4D-4E69-935D-7F2BA3A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974-A8F3-42CB-B5F5-2EC349CC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47EC-C45D-4E42-A70E-FFF455D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D10620_"/>
          <p:cNvPicPr/>
          <p:nvPr/>
        </p:nvPicPr>
        <p:blipFill>
          <a:blip r:embed="rId2"/>
          <a:stretch/>
        </p:blipFill>
        <p:spPr>
          <a:xfrm>
            <a:off x="3720960" y="0"/>
            <a:ext cx="54230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2FA3-D7A1-417E-A815-45B44308CD15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ucleusinc.com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pre61756_2001"/>
          <p:cNvPicPr/>
          <p:nvPr/>
        </p:nvPicPr>
        <p:blipFill>
          <a:blip r:embed="rId1"/>
          <a:srcRect l="0" t="0" r="0" b="18191"/>
          <a:stretch/>
        </p:blipFill>
        <p:spPr>
          <a:xfrm>
            <a:off x="1447920" y="0"/>
            <a:ext cx="65354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Anatom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19760" y="2104560"/>
            <a:ext cx="152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condylar eminenc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al tuberos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tibia1"/>
          <p:cNvPicPr/>
          <p:nvPr/>
        </p:nvPicPr>
        <p:blipFill>
          <a:blip r:embed="rId1"/>
          <a:stretch/>
        </p:blipFill>
        <p:spPr>
          <a:xfrm>
            <a:off x="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152280" y="1012680"/>
            <a:ext cx="3962520" cy="528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800600" y="1036800"/>
            <a:ext cx="420048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tendon- attaches to the anterior of the tibia. (tibial tuberosity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adriceps tendon-attaches the quadriceps to the patella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12" descr="Provided by Nucleus Communications, Inc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2760" y="1676520"/>
            <a:ext cx="4203720" cy="44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Joints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ibi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joint in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atellofemora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contains the thickest cartilage found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erior Tibiofibular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y movement here is due to movement at the ank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Stabiliz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M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A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” shaped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ruciate Liga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jor stabilizing ligaments in the kne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erior Cruciate Ligament (ACL)-prevents the tibia from sliding out in front of the femu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juries caused by hyperflexion, internal rotation, hyper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Picture 8" descr="fig11"/>
          <p:cNvPicPr/>
          <p:nvPr/>
        </p:nvPicPr>
        <p:blipFill>
          <a:blip r:embed="rId1"/>
          <a:stretch/>
        </p:blipFill>
        <p:spPr>
          <a:xfrm>
            <a:off x="228600" y="1600200"/>
            <a:ext cx="449568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kneetes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s Two Bund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teromedi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flexion and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ght in exten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igament is most lax between 30 – 6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Knee Joi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most poorly constructed joint in the body.  Femur round, tibia flat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rised of four bones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bi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5" descr="OrangeRndDiningTbl3QF4_lg"/>
          <p:cNvPicPr/>
          <p:nvPr/>
        </p:nvPicPr>
        <p:blipFill>
          <a:blip r:embed="rId1"/>
          <a:stretch/>
        </p:blipFill>
        <p:spPr>
          <a:xfrm>
            <a:off x="5867280" y="4800600"/>
            <a:ext cx="2762280" cy="140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Orange"/>
          <p:cNvPicPr/>
          <p:nvPr/>
        </p:nvPicPr>
        <p:blipFill>
          <a:blip r:embed="rId2"/>
          <a:stretch/>
        </p:blipFill>
        <p:spPr>
          <a:xfrm>
            <a:off x="6324480" y="3276720"/>
            <a:ext cx="1981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sterior Cruciate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posterior translation of the tibia on the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ists hyperextension of kne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uns from posterior tibia to anterior femu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posterior-cruciate-ligament-pcl"/>
          <p:cNvPicPr/>
          <p:nvPr/>
        </p:nvPicPr>
        <p:blipFill>
          <a:blip r:embed="rId1"/>
          <a:stretch/>
        </p:blipFill>
        <p:spPr>
          <a:xfrm>
            <a:off x="4800600" y="198108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CL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bers are tightest around 30 degrees flexio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terolateral fibers are the last to become tigh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wo times stronger than AC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Collateral Ligament (MCL)- connect the tibia and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lateral side could cause a tea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g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15" descr="acl"/>
          <p:cNvPicPr/>
          <p:nvPr/>
        </p:nvPicPr>
        <p:blipFill>
          <a:blip r:embed="rId1"/>
          <a:stretch/>
        </p:blipFill>
        <p:spPr>
          <a:xfrm>
            <a:off x="320760" y="1752480"/>
            <a:ext cx="41749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di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lay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ep layer is actually a thickening of the joint capsule that blends into the medial meniscu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perficial layer is what we view as the MC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medial-collateral-ligament-mcl"/>
          <p:cNvPicPr/>
          <p:nvPr/>
        </p:nvPicPr>
        <p:blipFill>
          <a:blip r:embed="rId1"/>
          <a:stretch/>
        </p:blipFill>
        <p:spPr>
          <a:xfrm>
            <a:off x="5315040" y="19051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Collateral Ligament (LCL)-  connect the fibula to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force from the medial side can cause a tear of the LC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rus fo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8" descr="acl_10"/>
          <p:cNvPicPr/>
          <p:nvPr/>
        </p:nvPicPr>
        <p:blipFill>
          <a:blip r:embed="rId1"/>
          <a:stretch/>
        </p:blipFill>
        <p:spPr>
          <a:xfrm>
            <a:off x="0" y="1981080"/>
            <a:ext cx="44197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teral Collateral Ligam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aches to head of fibul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vents excessive varus and IR forc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ightest in extension, loosest after 30 degrees flex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lateral-collateral-ligament-lcl"/>
          <p:cNvPicPr/>
          <p:nvPr/>
        </p:nvPicPr>
        <p:blipFill>
          <a:blip r:embed="rId1"/>
          <a:stretch/>
        </p:blipFill>
        <p:spPr>
          <a:xfrm>
            <a:off x="5257800" y="1676520"/>
            <a:ext cx="3486240" cy="46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 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ticulate Cartilage-covers the moving parts of the knee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ronic damage to articulate cartilage leads to arthritis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9" descr="menisucs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topview kneetest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artilag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niscus- half moon shaped cartilage lying between the knee joint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7" descr="injuries-lower-knee-meniscus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40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TICULAR DIS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teral Menisc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4" descr="Birds_Eye"/>
          <p:cNvPicPr/>
          <p:nvPr/>
        </p:nvPicPr>
        <p:blipFill>
          <a:blip r:embed="rId1"/>
          <a:stretch/>
        </p:blipFill>
        <p:spPr>
          <a:xfrm>
            <a:off x="304920" y="3352680"/>
            <a:ext cx="3809880" cy="31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- distal ends of the femur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rgest bone in the bo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7" descr="knee_front_bones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Meniscus has 3 zon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uter 1/3:  good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d/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iddle 1/3:  minimal blood suppl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ite Zon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1/3:   avascular (no blood suppl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lications for injury?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eniscal Blood Supply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3" descr="pre61756_2003"/>
          <p:cNvPicPr/>
          <p:nvPr/>
        </p:nvPicPr>
        <p:blipFill>
          <a:blip r:embed="rId1"/>
          <a:srcRect l="0" t="0" r="0" b="55558"/>
          <a:stretch/>
        </p:blipFill>
        <p:spPr>
          <a:xfrm>
            <a:off x="914400" y="2421000"/>
            <a:ext cx="7467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4" descr="KNee Joint with Primary Ligments"/>
          <p:cNvPicPr/>
          <p:nvPr/>
        </p:nvPicPr>
        <p:blipFill>
          <a:blip r:embed="rId1"/>
          <a:stretch/>
        </p:blipFill>
        <p:spPr>
          <a:xfrm>
            <a:off x="0" y="0"/>
            <a:ext cx="8915400" cy="68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4" descr="good knee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Picture 4" descr="femur diagram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91320" y="6091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Femu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d. Tubercl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epi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dial and lateral condy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condylar foss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tella fossa (not shown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Picture 4" descr="fer"/>
          <p:cNvPicPr/>
          <p:nvPr/>
        </p:nvPicPr>
        <p:blipFill>
          <a:blip r:embed="rId1"/>
          <a:stretch/>
        </p:blipFill>
        <p:spPr>
          <a:xfrm>
            <a:off x="0" y="0"/>
            <a:ext cx="3032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ibia and Fibula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4" descr="fib tib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tibfib knee tet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detailed tib fib"/>
          <p:cNvPicPr/>
          <p:nvPr/>
        </p:nvPicPr>
        <p:blipFill>
          <a:blip r:embed="rId1"/>
          <a:stretch/>
        </p:blipFill>
        <p:spPr>
          <a:xfrm>
            <a:off x="0" y="0"/>
            <a:ext cx="7924680" cy="68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Fibula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763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ndmarks to know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pex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ck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teral Maelleolu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fibula"/>
          <p:cNvPicPr/>
          <p:nvPr/>
        </p:nvPicPr>
        <p:blipFill>
          <a:blip r:embed="rId1"/>
          <a:stretch/>
        </p:blipFill>
        <p:spPr>
          <a:xfrm>
            <a:off x="0" y="0"/>
            <a:ext cx="30528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23:52:20Z</dcterms:created>
  <dc:creator>lindseyboutilier</dc:creator>
  <dc:description/>
  <dc:language>en-US</dc:language>
  <cp:lastModifiedBy>Andrew S. Hansell</cp:lastModifiedBy>
  <dcterms:modified xsi:type="dcterms:W3CDTF">2014-02-17T15:16:28Z</dcterms:modified>
  <cp:revision>40</cp:revision>
  <dc:subject/>
  <dc:title>Knee Anatomy</dc:title>
</cp:coreProperties>
</file>